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3DB7-D780-48EC-9F40-95373ED2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F8D7-9255-4642-B733-6FF06ADD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7C4F-7394-431B-AF98-02BBBA30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3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6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3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FB91-CA90-4D09-BC06-D6DB5A0C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9B268-94F2-4347-A1AE-A6D081F5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20E36-1C26-4262-A44F-62D5FE72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77A82-BDFC-4FD2-BDFB-BF60FB5E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A241D-6F8A-412B-93E1-B4764D20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1C16D-59BE-4041-B445-96B0D50D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93840" y="0"/>
            <a:ext cx="83692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033E5-44B0-4AD2-8306-9E9F8D80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6D3EF-2293-47A9-9C45-9CF12BA9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C6A3-8BAD-4E96-9A6C-4E4C9606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91F76-2C67-48D7-96E2-E9C0CC23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BB28F-8D9E-402D-B499-1D169545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F354C-8A68-4930-8C3E-6F8FBAA7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59C4C-B991-4CDE-A658-230CAA06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23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008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6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23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008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E1E1D-E4FF-4DB9-8204-5AB94CDC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C263F-E446-411E-A4B2-63A5A377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2768-396C-4F51-BF39-6E968462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26BD-CF05-44AC-96BA-8B49917D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3840" y="0"/>
            <a:ext cx="83692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BA75-F5BA-419E-B527-E9877B3E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8859-0BC7-44A5-B939-C23D2009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09C5-4095-4B09-BA8C-6431A65D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02AF-7094-4FDE-886C-0AF77E5E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b9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5929200"/>
            <a:ext cx="9150480" cy="92880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5764" h="585">
                <a:moveTo>
                  <a:pt x="2" y="170"/>
                </a:moveTo>
                <a:cubicBezTo>
                  <a:pt x="278" y="222"/>
                  <a:pt x="166" y="208"/>
                  <a:pt x="277" y="228"/>
                </a:cubicBezTo>
                <a:cubicBezTo>
                  <a:pt x="387" y="245"/>
                  <a:pt x="456" y="260"/>
                  <a:pt x="529" y="272"/>
                </a:cubicBezTo>
                <a:cubicBezTo>
                  <a:pt x="601" y="285"/>
                  <a:pt x="628" y="292"/>
                  <a:pt x="715" y="304"/>
                </a:cubicBezTo>
                <a:cubicBezTo>
                  <a:pt x="1102" y="352"/>
                  <a:pt x="994" y="339"/>
                  <a:pt x="1050" y="345"/>
                </a:cubicBezTo>
                <a:cubicBezTo>
                  <a:pt x="1418" y="355"/>
                  <a:pt x="1310" y="357"/>
                  <a:pt x="1461" y="357"/>
                </a:cubicBezTo>
                <a:cubicBezTo>
                  <a:pt x="1681" y="348"/>
                  <a:pt x="1717" y="348"/>
                  <a:pt x="1860" y="343"/>
                </a:cubicBezTo>
                <a:cubicBezTo>
                  <a:pt x="2208" y="322"/>
                  <a:pt x="2073" y="318"/>
                  <a:pt x="2204" y="301"/>
                </a:cubicBezTo>
                <a:cubicBezTo>
                  <a:pt x="2608" y="227"/>
                  <a:pt x="2569" y="242"/>
                  <a:pt x="2699" y="216"/>
                </a:cubicBezTo>
                <a:lnTo>
                  <a:pt x="2991" y="147"/>
                </a:lnTo>
                <a:lnTo>
                  <a:pt x="3322" y="85"/>
                </a:lnTo>
                <a:lnTo>
                  <a:pt x="3709" y="35"/>
                </a:lnTo>
                <a:lnTo>
                  <a:pt x="4008" y="6"/>
                </a:lnTo>
                <a:lnTo>
                  <a:pt x="4443" y="0"/>
                </a:lnTo>
                <a:lnTo>
                  <a:pt x="4806" y="26"/>
                </a:lnTo>
                <a:lnTo>
                  <a:pt x="5169" y="70"/>
                </a:lnTo>
                <a:lnTo>
                  <a:pt x="5513" y="126"/>
                </a:lnTo>
                <a:lnTo>
                  <a:pt x="5763" y="166"/>
                </a:lnTo>
                <a:lnTo>
                  <a:pt x="5764" y="585"/>
                </a:lnTo>
                <a:lnTo>
                  <a:pt x="2900" y="585"/>
                </a:lnTo>
                <a:lnTo>
                  <a:pt x="0" y="585"/>
                </a:lnTo>
                <a:lnTo>
                  <a:pt x="2" y="170"/>
                </a:lnTo>
                <a:close/>
              </a:path>
            </a:pathLst>
          </a:custGeom>
          <a:solidFill>
            <a:srgbClr val="003b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2"/>
          <a:stretch/>
        </p:blipFill>
        <p:spPr>
          <a:xfrm>
            <a:off x="0" y="5586480"/>
            <a:ext cx="9144000" cy="120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25960" y="6606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EFEA-5726-446E-AE4B-D95C709FC2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8520" y="6606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06440" y="6606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5514840" y="6356520"/>
            <a:ext cx="2664000" cy="260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0" y="787320"/>
            <a:ext cx="9144000" cy="66600"/>
          </a:xfrm>
          <a:prstGeom prst="rect">
            <a:avLst/>
          </a:prstGeom>
          <a:solidFill>
            <a:srgbClr val="db0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2"/>
          <p:cNvSpPr/>
          <p:nvPr/>
        </p:nvSpPr>
        <p:spPr>
          <a:xfrm>
            <a:off x="0" y="5929200"/>
            <a:ext cx="9150480" cy="92880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5764" h="585">
                <a:moveTo>
                  <a:pt x="2" y="170"/>
                </a:moveTo>
                <a:cubicBezTo>
                  <a:pt x="278" y="222"/>
                  <a:pt x="166" y="208"/>
                  <a:pt x="277" y="228"/>
                </a:cubicBezTo>
                <a:cubicBezTo>
                  <a:pt x="387" y="245"/>
                  <a:pt x="456" y="260"/>
                  <a:pt x="529" y="272"/>
                </a:cubicBezTo>
                <a:cubicBezTo>
                  <a:pt x="601" y="285"/>
                  <a:pt x="628" y="292"/>
                  <a:pt x="715" y="304"/>
                </a:cubicBezTo>
                <a:cubicBezTo>
                  <a:pt x="1102" y="352"/>
                  <a:pt x="994" y="339"/>
                  <a:pt x="1050" y="345"/>
                </a:cubicBezTo>
                <a:cubicBezTo>
                  <a:pt x="1418" y="355"/>
                  <a:pt x="1310" y="357"/>
                  <a:pt x="1461" y="357"/>
                </a:cubicBezTo>
                <a:cubicBezTo>
                  <a:pt x="1681" y="348"/>
                  <a:pt x="1717" y="348"/>
                  <a:pt x="1860" y="343"/>
                </a:cubicBezTo>
                <a:cubicBezTo>
                  <a:pt x="2208" y="322"/>
                  <a:pt x="2073" y="318"/>
                  <a:pt x="2204" y="301"/>
                </a:cubicBezTo>
                <a:cubicBezTo>
                  <a:pt x="2608" y="227"/>
                  <a:pt x="2569" y="242"/>
                  <a:pt x="2699" y="216"/>
                </a:cubicBezTo>
                <a:lnTo>
                  <a:pt x="2991" y="147"/>
                </a:lnTo>
                <a:lnTo>
                  <a:pt x="3322" y="85"/>
                </a:lnTo>
                <a:lnTo>
                  <a:pt x="3709" y="35"/>
                </a:lnTo>
                <a:lnTo>
                  <a:pt x="4008" y="6"/>
                </a:lnTo>
                <a:lnTo>
                  <a:pt x="4443" y="0"/>
                </a:lnTo>
                <a:lnTo>
                  <a:pt x="4806" y="26"/>
                </a:lnTo>
                <a:lnTo>
                  <a:pt x="5169" y="70"/>
                </a:lnTo>
                <a:lnTo>
                  <a:pt x="5513" y="126"/>
                </a:lnTo>
                <a:lnTo>
                  <a:pt x="5763" y="166"/>
                </a:lnTo>
                <a:lnTo>
                  <a:pt x="5764" y="585"/>
                </a:lnTo>
                <a:lnTo>
                  <a:pt x="2900" y="585"/>
                </a:lnTo>
                <a:lnTo>
                  <a:pt x="0" y="585"/>
                </a:lnTo>
                <a:lnTo>
                  <a:pt x="2" y="170"/>
                </a:lnTo>
                <a:close/>
              </a:path>
            </a:pathLst>
          </a:custGeom>
          <a:solidFill>
            <a:srgbClr val="003b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5586480"/>
            <a:ext cx="9144000" cy="1201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5514840" y="6356520"/>
            <a:ext cx="2664000" cy="260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0" y="787320"/>
            <a:ext cx="9144000" cy="66600"/>
          </a:xfrm>
          <a:prstGeom prst="rect">
            <a:avLst/>
          </a:prstGeom>
          <a:solidFill>
            <a:srgbClr val="db0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1" descr=""/>
          <p:cNvPicPr/>
          <p:nvPr/>
        </p:nvPicPr>
        <p:blipFill>
          <a:blip r:embed="rId4"/>
          <a:stretch/>
        </p:blipFill>
        <p:spPr>
          <a:xfrm>
            <a:off x="401760" y="222120"/>
            <a:ext cx="5155920" cy="38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b9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6825960" y="6606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D4E5-74C5-4C36-B340-EED2A54AAC6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098520" y="6606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dt" idx="6"/>
          </p:nvPr>
        </p:nvSpPr>
        <p:spPr>
          <a:xfrm>
            <a:off x="406440" y="6606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06440" y="4017960"/>
            <a:ext cx="8331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ark Penson &amp; Steven Bastow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06440" y="1522440"/>
            <a:ext cx="8331120" cy="20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3b90"/>
                </a:solidFill>
                <a:latin typeface="Arial"/>
              </a:rPr>
              <a:t>Kingston University, Student Experience and Employability</a:t>
            </a:r>
            <a:endParaRPr b="1" lang="en-US" sz="33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Employability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3b90"/>
                </a:solidFill>
                <a:latin typeface="Arial"/>
              </a:rPr>
              <a:t>“</a:t>
            </a:r>
            <a:r>
              <a:rPr b="0" lang="en-GB" sz="2700" spc="-1" strike="noStrike">
                <a:solidFill>
                  <a:srgbClr val="003b90"/>
                </a:solidFill>
                <a:latin typeface="Arial"/>
              </a:rPr>
              <a:t>To provide students with the key skills, other employment skills and appropriate support to gain good employment” (KU Strategic Plan 09 –13)</a:t>
            </a:r>
            <a:endParaRPr b="0" lang="en-US" sz="27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b90"/>
                </a:solidFill>
                <a:latin typeface="Arial"/>
              </a:rPr>
              <a:t> “</a:t>
            </a:r>
            <a:r>
              <a:rPr b="0" i="1" lang="en-GB" sz="2800" spc="-1" strike="noStrike">
                <a:solidFill>
                  <a:srgbClr val="003b90"/>
                </a:solidFill>
                <a:latin typeface="Arial"/>
              </a:rPr>
              <a:t>It is about learning and the emphasis is less on ‘employ’ and more on </a:t>
            </a:r>
            <a:r>
              <a:rPr b="1" i="1" lang="en-GB" sz="2800" spc="-1" strike="noStrike">
                <a:solidFill>
                  <a:srgbClr val="003b90"/>
                </a:solidFill>
                <a:latin typeface="Arial"/>
              </a:rPr>
              <a:t>‘ability’”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University Plan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06440" y="1125360"/>
            <a:ext cx="8331120" cy="41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Embed employability attributes, job seeking skills and enterprise within subjects / programme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Enable student reflection and recording employability skills and achievement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To provide a robust and proactive Employability service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To provide innovative work experience / volunteering opportunitie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easure employability within the curriculum and the success of its delivery 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6:32:07Z</dcterms:created>
  <dc:creator>KU04515</dc:creator>
  <dc:description/>
  <dc:language>en-US</dc:language>
  <cp:lastModifiedBy>Dazed N Confused</cp:lastModifiedBy>
  <dcterms:modified xsi:type="dcterms:W3CDTF">2011-04-13T05:20:58Z</dcterms:modified>
  <cp:revision>54</cp:revision>
  <dc:subject/>
  <dc:title>Slide 1</dc:title>
</cp:coreProperties>
</file>