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18F1F-268A-42A2-B84E-EFD548AC8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06440" y="1342800"/>
            <a:ext cx="833112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6440" y="3413520"/>
            <a:ext cx="833112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3F801-3393-4DB8-8C63-CD51B6C78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06440" y="134280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5680" y="134280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06440" y="341352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5680" y="341352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B2E00-18DA-43DA-9065-8AA492C8D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06440" y="1342800"/>
            <a:ext cx="26823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23440" y="1342800"/>
            <a:ext cx="26823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0080" y="1342800"/>
            <a:ext cx="26823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06440" y="3413520"/>
            <a:ext cx="26823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23440" y="3413520"/>
            <a:ext cx="26823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0080" y="3413520"/>
            <a:ext cx="26823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4C3C8-D114-4651-85BC-59AC1419F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173127-027C-4EAA-B643-5D457D0D4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06440" y="1342800"/>
            <a:ext cx="833112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42B8CF-0924-4E31-B1CB-844C8356C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06440" y="1342800"/>
            <a:ext cx="833112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C9EEDF-5BF3-40C8-BF60-114A67E02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06440" y="1342800"/>
            <a:ext cx="406548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5680" y="1342800"/>
            <a:ext cx="406548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E1D8C2-7599-409A-946E-E8FF795EE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219FD8-54E6-43FF-9B19-6C3EC8D9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93840" y="0"/>
            <a:ext cx="836928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85C9CB-DE7B-45AE-BCE0-8C9DF5299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06440" y="134280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5680" y="1342800"/>
            <a:ext cx="406548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06440" y="341352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206766-92E8-4C44-A779-99BF8509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06440" y="1342800"/>
            <a:ext cx="833112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78F4F-888B-4001-89D0-E2FE8E23A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06440" y="1342800"/>
            <a:ext cx="406548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5680" y="134280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5680" y="341352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6CE5D9-4E2D-4725-A0D4-CDD6FBA8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06440" y="134280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5680" y="134280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06440" y="3413520"/>
            <a:ext cx="833112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977F41-8824-497F-AB58-ADA911A3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06440" y="1342800"/>
            <a:ext cx="833112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6440" y="3413520"/>
            <a:ext cx="833112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A7D3C0-77B1-4D22-9B03-C3D997620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06440" y="134280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5680" y="134280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06440" y="341352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5680" y="341352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446BD7-0887-4E2E-ACC7-AB9469DD3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06440" y="1342800"/>
            <a:ext cx="26823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23440" y="1342800"/>
            <a:ext cx="26823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0080" y="1342800"/>
            <a:ext cx="26823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6440" y="3413520"/>
            <a:ext cx="26823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23440" y="3413520"/>
            <a:ext cx="26823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0080" y="3413520"/>
            <a:ext cx="26823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3DF81D-668C-491F-AB86-C31C4C913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06440" y="1342800"/>
            <a:ext cx="833112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9F19E-99F1-40F7-A409-8067146C8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06440" y="1342800"/>
            <a:ext cx="406548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5680" y="1342800"/>
            <a:ext cx="406548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83797-E7E7-4137-950E-576F62445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D7A55-6831-408C-BB0B-AC37B3617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93840" y="0"/>
            <a:ext cx="836928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52463-2B44-48C3-8238-C364AC70D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6440" y="134280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5680" y="1342800"/>
            <a:ext cx="406548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6440" y="341352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4DD3F-77CF-4D4A-8345-572F0A61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06440" y="1342800"/>
            <a:ext cx="406548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5680" y="134280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5680" y="341352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ECDB0-C940-46CC-8142-68E3FBCB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06440" y="134280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5680" y="134280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06440" y="3413520"/>
            <a:ext cx="833112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7BA0F-F9FD-41BE-8E3B-29FBE2F9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3b9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06440" y="1342800"/>
            <a:ext cx="833112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b9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b0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b9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b0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b9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lvl="3" marL="1562040" indent="-228600">
              <a:spcBef>
                <a:spcPts val="700"/>
              </a:spcBef>
              <a:buClr>
                <a:srgbClr val="db0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b9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lvl="4" marL="1981080" indent="-228600">
              <a:spcBef>
                <a:spcPts val="700"/>
              </a:spcBef>
              <a:buClr>
                <a:srgbClr val="db0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b9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lvl="5" marL="198108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b9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lvl="6" marL="198108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b9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5929200"/>
            <a:ext cx="9150480" cy="928800"/>
          </a:xfrm>
          <a:prstGeom prst="pie">
            <a:avLst/>
          </a:prstGeom>
          <a:solidFill>
            <a:srgbClr val="003b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Picture 5" descr=""/>
          <p:cNvPicPr/>
          <p:nvPr/>
        </p:nvPicPr>
        <p:blipFill>
          <a:blip r:embed="rId2"/>
          <a:stretch/>
        </p:blipFill>
        <p:spPr>
          <a:xfrm>
            <a:off x="0" y="5586480"/>
            <a:ext cx="9144000" cy="120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25960" y="66067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5E5C2-F401-49E7-90E9-AE1052DB92E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98520" y="66067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406440" y="6606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" descr=""/>
          <p:cNvPicPr/>
          <p:nvPr/>
        </p:nvPicPr>
        <p:blipFill>
          <a:blip r:embed="rId3"/>
          <a:stretch/>
        </p:blipFill>
        <p:spPr>
          <a:xfrm>
            <a:off x="5514840" y="6356520"/>
            <a:ext cx="2664000" cy="26028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0" y="787320"/>
            <a:ext cx="9144000" cy="66600"/>
          </a:xfrm>
          <a:prstGeom prst="rect">
            <a:avLst/>
          </a:prstGeom>
          <a:solidFill>
            <a:srgbClr val="db0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2"/>
          <p:cNvSpPr/>
          <p:nvPr/>
        </p:nvSpPr>
        <p:spPr>
          <a:xfrm>
            <a:off x="0" y="5929200"/>
            <a:ext cx="9150480" cy="928800"/>
          </a:xfrm>
          <a:prstGeom prst="pie">
            <a:avLst/>
          </a:prstGeom>
          <a:solidFill>
            <a:srgbClr val="003b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0" y="5586480"/>
            <a:ext cx="9144000" cy="1201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"/>
          <p:cNvPicPr/>
          <p:nvPr/>
        </p:nvPicPr>
        <p:blipFill>
          <a:blip r:embed="rId3"/>
          <a:stretch/>
        </p:blipFill>
        <p:spPr>
          <a:xfrm>
            <a:off x="5514840" y="6356520"/>
            <a:ext cx="2664000" cy="2602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8"/>
          <p:cNvSpPr/>
          <p:nvPr/>
        </p:nvSpPr>
        <p:spPr>
          <a:xfrm>
            <a:off x="0" y="787320"/>
            <a:ext cx="9144000" cy="66600"/>
          </a:xfrm>
          <a:prstGeom prst="rect">
            <a:avLst/>
          </a:prstGeom>
          <a:solidFill>
            <a:srgbClr val="db0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11" descr=""/>
          <p:cNvPicPr/>
          <p:nvPr/>
        </p:nvPicPr>
        <p:blipFill>
          <a:blip r:embed="rId4"/>
          <a:stretch/>
        </p:blipFill>
        <p:spPr>
          <a:xfrm>
            <a:off x="401760" y="222120"/>
            <a:ext cx="5155920" cy="3859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3b9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06440" y="1342800"/>
            <a:ext cx="833112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b9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b0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b9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b0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b9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lvl="3" marL="1562040" indent="-228600">
              <a:spcBef>
                <a:spcPts val="700"/>
              </a:spcBef>
              <a:buClr>
                <a:srgbClr val="db0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b9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lvl="4" marL="1981080" indent="-228600">
              <a:spcBef>
                <a:spcPts val="700"/>
              </a:spcBef>
              <a:buClr>
                <a:srgbClr val="db0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b9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lvl="5" marL="198108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b9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lvl="6" marL="198108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b9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4"/>
          </p:nvPr>
        </p:nvSpPr>
        <p:spPr>
          <a:xfrm>
            <a:off x="6825960" y="66067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A0F58-F1A6-44E3-86DB-AC72819B933C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098520" y="66067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dt" idx="6"/>
          </p:nvPr>
        </p:nvSpPr>
        <p:spPr>
          <a:xfrm>
            <a:off x="406440" y="6606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06440" y="4017960"/>
            <a:ext cx="83311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06440" y="1522440"/>
            <a:ext cx="8331120" cy="20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3b90"/>
                </a:solidFill>
                <a:latin typeface="Arial"/>
              </a:rPr>
              <a:t>The Development of Masters Programmes at Kingston University</a:t>
            </a:r>
            <a:endParaRPr b="1" lang="en-US" sz="3300" spc="-1" strike="noStrike">
              <a:solidFill>
                <a:srgbClr val="003b9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3b90"/>
                </a:solidFill>
                <a:latin typeface="Arial"/>
              </a:rPr>
              <a:t>The Module Directory</a:t>
            </a: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06440" y="1342800"/>
            <a:ext cx="833112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The key elements of module syllabi expressed here are: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Number of credits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Module Aims and Outcomes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Curriculum content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3b90"/>
                </a:solidFill>
                <a:latin typeface="Arial"/>
              </a:rPr>
              <a:t>The Module Directory</a:t>
            </a: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06440" y="1342800"/>
            <a:ext cx="833112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Teaching and Learning Strategy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Assessment Strategy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Major categories of assessment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3b90"/>
                </a:solidFill>
                <a:latin typeface="Arial"/>
              </a:rPr>
              <a:t>Resources Document</a:t>
            </a: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06440" y="1342800"/>
            <a:ext cx="833112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Physical resources 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Staff CVs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Details of the management arrangements for the field(s)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3b90"/>
                </a:solidFill>
                <a:latin typeface="Arial"/>
              </a:rPr>
              <a:t>Case Studies</a:t>
            </a: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06440" y="1342800"/>
            <a:ext cx="833112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Developing a new Masters programme: the A2 document for the MA Language and Society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The Programme Specification: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db0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b90"/>
                </a:solidFill>
                <a:latin typeface="Arial"/>
              </a:rPr>
              <a:t>MA Media and Communication</a:t>
            </a:r>
            <a:endParaRPr b="0" lang="en-US" sz="2600" spc="-1" strike="noStrike">
              <a:solidFill>
                <a:srgbClr val="003b9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db0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b90"/>
                </a:solidFill>
                <a:latin typeface="Arial"/>
              </a:rPr>
              <a:t>MA film-making</a:t>
            </a:r>
            <a:endParaRPr b="0" lang="en-US" sz="2600" spc="-1" strike="noStrike">
              <a:solidFill>
                <a:srgbClr val="003b9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db0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b90"/>
                </a:solidFill>
                <a:latin typeface="Arial"/>
              </a:rPr>
              <a:t>MA Film Studies</a:t>
            </a:r>
            <a:endParaRPr b="0" lang="en-US" sz="2600" spc="-1" strike="noStrike">
              <a:solidFill>
                <a:srgbClr val="003b9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3b90"/>
                </a:solidFill>
                <a:latin typeface="Arial"/>
              </a:rPr>
              <a:t>Introduction</a:t>
            </a: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06440" y="1342800"/>
            <a:ext cx="833112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Personnel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Context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What do you want from this Training Workshop?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3b90"/>
                </a:solidFill>
                <a:latin typeface="Arial"/>
              </a:rPr>
              <a:t>Proposals for Developing new Degrees: Faculty level</a:t>
            </a: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00040" y="1285560"/>
            <a:ext cx="833112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Developmental stages at Faculty level: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Discussion at BOS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Consultation with HOS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PRDG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3b90"/>
                </a:solidFill>
                <a:latin typeface="Arial"/>
              </a:rPr>
              <a:t>Proposals for Developing new Degrees: Faculty level</a:t>
            </a: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06440" y="1342800"/>
            <a:ext cx="833112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Course proposals must fulfil as many as possible of the following criteria: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Verifiable evidence of demand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Ability to attract an enhanced fee and/or international students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Minimum resource implications in delivery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Minimum resource implications in marketing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A fit with FASS strategic priorities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3b90"/>
                </a:solidFill>
                <a:latin typeface="Arial"/>
              </a:rPr>
              <a:t>Proposals for Developing new Degrees: University level</a:t>
            </a: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06440" y="1342800"/>
            <a:ext cx="833112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Academic Quality and Standards (AQS)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db0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b90"/>
                </a:solidFill>
                <a:latin typeface="Arial"/>
              </a:rPr>
              <a:t>Department submits documentation making case for new course</a:t>
            </a:r>
            <a:endParaRPr b="0" lang="en-US" sz="2600" spc="-1" strike="noStrike">
              <a:solidFill>
                <a:srgbClr val="003b9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db0399"/>
              </a:buClr>
              <a:buSzPct val="7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b90"/>
                </a:solidFill>
                <a:latin typeface="Arial"/>
              </a:rPr>
              <a:t>Outline of the proposed programme</a:t>
            </a:r>
            <a:endParaRPr b="0" lang="en-US" sz="2400" spc="-1" strike="noStrike">
              <a:solidFill>
                <a:srgbClr val="003b9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db0399"/>
              </a:buClr>
              <a:buSzPct val="7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b90"/>
                </a:solidFill>
                <a:latin typeface="Arial"/>
              </a:rPr>
              <a:t>Link to the University and Faculty strategic plans</a:t>
            </a:r>
            <a:endParaRPr b="0" lang="en-US" sz="2400" spc="-1" strike="noStrike">
              <a:solidFill>
                <a:srgbClr val="003b9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db0399"/>
              </a:buClr>
              <a:buSzPct val="7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b90"/>
                </a:solidFill>
                <a:latin typeface="Arial"/>
              </a:rPr>
              <a:t>Evidence of demand</a:t>
            </a:r>
            <a:endParaRPr b="0" lang="en-US" sz="2400" spc="-1" strike="noStrike">
              <a:solidFill>
                <a:srgbClr val="003b9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db0399"/>
              </a:buClr>
              <a:buSzPct val="7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b90"/>
                </a:solidFill>
                <a:latin typeface="Arial"/>
              </a:rPr>
              <a:t>Projected numbers</a:t>
            </a:r>
            <a:endParaRPr b="0" lang="en-US" sz="2400" spc="-1" strike="noStrike">
              <a:solidFill>
                <a:srgbClr val="003b9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db0399"/>
              </a:buClr>
              <a:buSzPct val="7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b90"/>
                </a:solidFill>
                <a:latin typeface="Arial"/>
              </a:rPr>
              <a:t>Resource implications</a:t>
            </a:r>
            <a:endParaRPr b="0" lang="en-US" sz="2400" spc="-1" strike="noStrike">
              <a:solidFill>
                <a:srgbClr val="003b9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db0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b90"/>
                </a:solidFill>
                <a:latin typeface="Arial"/>
              </a:rPr>
              <a:t>Decide whether Faculty or University validation</a:t>
            </a:r>
            <a:endParaRPr b="0" lang="en-US" sz="2600" spc="-1" strike="noStrike">
              <a:solidFill>
                <a:srgbClr val="003b9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db0399"/>
              </a:buClr>
              <a:buSzPct val="7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9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db0399"/>
              </a:buClr>
              <a:buSzPct val="7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9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db039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9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3b90"/>
                </a:solidFill>
                <a:latin typeface="Arial"/>
              </a:rPr>
              <a:t>Evidence of Demand</a:t>
            </a:r>
            <a:r>
              <a:rPr b="1" lang="en-GB" sz="2900" spc="-1" strike="noStrike">
                <a:solidFill>
                  <a:srgbClr val="003b90"/>
                </a:solidFill>
                <a:latin typeface="Arial"/>
              </a:rPr>
              <a:t>	</a:t>
            </a: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6440" y="1342800"/>
            <a:ext cx="833112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b90"/>
                </a:solidFill>
                <a:latin typeface="Arial"/>
              </a:rPr>
              <a:t>The trend in applications and enrolments (UG and PG)</a:t>
            </a:r>
            <a:endParaRPr b="0" lang="en-US" sz="3000" spc="-1" strike="noStrike">
              <a:solidFill>
                <a:srgbClr val="003b9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db0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b90"/>
                </a:solidFill>
                <a:latin typeface="Arial"/>
              </a:rPr>
              <a:t>Competitor Analysis</a:t>
            </a:r>
            <a:endParaRPr b="0" lang="en-US" sz="2600" spc="-1" strike="noStrike">
              <a:solidFill>
                <a:srgbClr val="003b9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db0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b90"/>
                </a:solidFill>
                <a:latin typeface="Arial"/>
              </a:rPr>
              <a:t>Drivers of growth</a:t>
            </a:r>
            <a:endParaRPr b="0" lang="en-US" sz="2600" spc="-1" strike="noStrike">
              <a:solidFill>
                <a:srgbClr val="003b9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db0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b90"/>
                </a:solidFill>
                <a:latin typeface="Arial"/>
              </a:rPr>
              <a:t>Student profile</a:t>
            </a:r>
            <a:endParaRPr b="0" lang="en-US" sz="26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Employer Demand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Market Research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db0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b9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3b90"/>
                </a:solidFill>
                <a:latin typeface="Arial"/>
              </a:rPr>
              <a:t>Planning</a:t>
            </a: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06440" y="1342800"/>
            <a:ext cx="833112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Planning meeting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Programme Specification document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Module Directory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Resources document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3b90"/>
                </a:solidFill>
                <a:latin typeface="Arial"/>
              </a:rPr>
              <a:t>Programme Specification</a:t>
            </a: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06440" y="1342800"/>
            <a:ext cx="833112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Features of the field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Field Aims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Field Learning outcomes, differentiated by full- or half-field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db0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3b90"/>
                </a:solidFill>
                <a:latin typeface="Arial"/>
              </a:rPr>
              <a:t>Knowledge and Understanding</a:t>
            </a:r>
            <a:endParaRPr b="0" lang="en-US" sz="2600" spc="-1" strike="noStrike">
              <a:solidFill>
                <a:srgbClr val="003b9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db0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3b90"/>
                </a:solidFill>
                <a:latin typeface="Arial"/>
              </a:rPr>
              <a:t>Cognitive Skills</a:t>
            </a:r>
            <a:endParaRPr b="0" lang="en-US" sz="2600" spc="-1" strike="noStrike">
              <a:solidFill>
                <a:srgbClr val="003b9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db0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3b90"/>
                </a:solidFill>
                <a:latin typeface="Arial"/>
              </a:rPr>
              <a:t>Practical Skills</a:t>
            </a:r>
            <a:endParaRPr b="0" lang="en-US" sz="2600" spc="-1" strike="noStrike">
              <a:solidFill>
                <a:srgbClr val="003b9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db0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3b90"/>
                </a:solidFill>
                <a:latin typeface="Arial"/>
              </a:rPr>
              <a:t>Key Skills</a:t>
            </a:r>
            <a:endParaRPr b="0" lang="en-US" sz="26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3b90"/>
                </a:solidFill>
                <a:latin typeface="Arial"/>
              </a:rPr>
              <a:t>Programme Specification</a:t>
            </a: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00040" y="1356840"/>
            <a:ext cx="833112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Field Structure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Teaching, Learning &amp; Assessment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7T14:48:44Z</dcterms:created>
  <dc:creator>KU01577</dc:creator>
  <dc:description/>
  <dc:language>en-US</dc:language>
  <cp:lastModifiedBy>FASS</cp:lastModifiedBy>
  <dcterms:modified xsi:type="dcterms:W3CDTF">2011-04-12T08:48:44Z</dcterms:modified>
  <cp:revision>36</cp:revision>
  <dc:subject/>
  <dc:title>QA for the Development of Masters Programmes</dc:title>
</cp:coreProperties>
</file>